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39D-E5A9-4A51-BAD7-4BFF4752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CB6C-108F-4846-864E-D4AF3915D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622D-A7E3-4D42-8B09-F92A565F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0C44-06A6-4295-B6E0-4B3FEC97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E2A7D-F36A-4B2A-887F-F11277A9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19A46-B13C-4F27-B5E4-E0DD63DCC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12528-1EFA-4D10-95AB-F383529DD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4ABD-06E5-42A1-9BB1-5AED5229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343B9-AAB4-4479-901F-8E9127113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5319C-87D9-4DD5-9B91-19A8718D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E0F0B-97F1-4824-A2A8-E70ACA79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FD3-3C44-49B3-9405-0D2BC4FB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C4CB-A5DF-4228-8E78-5DBFE655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7159-4DE0-40F9-A730-27E55B0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BC47-E1D8-41CD-9BE5-896CEACD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CB3D7-AD05-47EB-BBB3-1A3164515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7AD8-7BDB-4115-AAC0-4EF4223F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386B-6A46-4846-B4CB-56A020D18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1878-DD05-45B4-8363-929080B4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3B44-EFDA-4134-AD09-FD146A6E3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BA59-2B8B-48E6-94BD-1DB556C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E93E-420D-45AC-85E3-47D3170B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572-4B88-44A4-AC58-082D90BF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8DE-4631-461C-9AD6-F6DEB00C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58b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58b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58b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1377-27C4-4EC1-B503-368D582E7523}" type="datetime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58b7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4802-6D9A-4FC8-8000-17CFA8F70F1F}" type="slidenum">
              <a:rPr b="0" lang="en-US" sz="1400" spc="-1" strike="noStrike">
                <a:solidFill>
                  <a:srgbClr val="e58b7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58b79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033-2948-456E-95D5-533BD58A40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355E-E804-4B90-8CC3-4CF76FF3D2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8b7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8b7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58b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8b7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8b7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58b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58b7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58b7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8b7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1219320"/>
            <a:ext cx="716292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54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486400"/>
            <a:ext cx="6782040" cy="45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Arial"/>
              </a:rPr>
              <a:t>Curso de Liderazgo –Nivel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Evaluando las necesidades de las mujeres en la iglesia local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00200" y="2362320"/>
            <a:ext cx="64008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person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ntrenamiento para la vid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Crecimiento espiritual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Necesidad de amistad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15000" y="4946760"/>
            <a:ext cx="2895480" cy="1911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990360" y="762120"/>
            <a:ext cx="7010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Ayuda en los procesos curativos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Mejor situación económic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vangelismo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Educación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600" spc="-1" strike="noStrike">
                <a:solidFill>
                  <a:srgbClr val="ffff00"/>
                </a:solidFill>
                <a:latin typeface="Arial"/>
              </a:rPr>
              <a:t>Seguridad financiera</a:t>
            </a: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283440" y="3200400"/>
            <a:ext cx="2022480" cy="273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Arial"/>
              </a:rPr>
              <a:t>Evaluando  Su Comunidad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6629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Reúnase con su comis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mience con oración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loque el amor en primer lugar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Conozca a los miembros de su iglesia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000" spc="-1" strike="noStrike">
                <a:solidFill>
                  <a:srgbClr val="ffffff"/>
                </a:solidFill>
                <a:latin typeface="Arial"/>
              </a:rPr>
              <a:t>Familiarícese con sus vecinos.</a:t>
            </a:r>
            <a:endParaRPr b="0" lang="en-US" sz="30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676160" y="99072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Valore las ideas de cada mujer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Delimite las necesidade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Sea sensibl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Reuniones participativas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ffffff"/>
                </a:solidFill>
                <a:latin typeface="Arial"/>
              </a:rPr>
              <a:t>Grupos de enfoque.</a:t>
            </a:r>
            <a:endParaRPr b="0" lang="en-US" sz="3200" spc="-1" strike="noStrike">
              <a:solidFill>
                <a:srgbClr val="e58b79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91320" y="3505320"/>
            <a:ext cx="2565360" cy="3090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ffffff"/>
                </a:solidFill>
                <a:latin typeface="Arial"/>
              </a:rPr>
              <a:t>Encuestas – Planificación e Implementación</a:t>
            </a:r>
            <a:endParaRPr b="0" lang="en-US" sz="37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100" spc="-1" strike="noStrike">
                <a:solidFill>
                  <a:srgbClr val="ffff00"/>
                </a:solidFill>
                <a:latin typeface="Arial"/>
              </a:rPr>
              <a:t>Una buena encuesta le dirá:</a:t>
            </a: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marL="322200" indent="0">
              <a:lnSpc>
                <a:spcPct val="4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de los ministerios que están activos actualmente en la iglesia son de interés para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necesidad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Quiénes son l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Las formas que las mujeres están dispuestas a servir a otras mujer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ffffff"/>
                </a:solidFill>
                <a:latin typeface="Arial"/>
              </a:rPr>
              <a:t>Cuáles son sus intereses.</a:t>
            </a:r>
            <a:endParaRPr b="0" lang="en-US" sz="27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000" spc="-1" strike="noStrike">
                <a:solidFill>
                  <a:srgbClr val="ffffff"/>
                </a:solidFill>
                <a:latin typeface="Arial"/>
              </a:rPr>
              <a:t>Las encuestas deben incluir:</a:t>
            </a:r>
            <a:endParaRPr b="0" lang="en-US" sz="4000" spc="-1" strike="noStrike">
              <a:solidFill>
                <a:srgbClr val="e58b7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162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lugar para escribir el nombre, dirección, teléfono y el grupo de edad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ellas desean asistir a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lista de seminarios de entrenamiento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indicar  en que ministerio están participando actualmente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71240" y="609120"/>
            <a:ext cx="662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unirse a los ministerios actu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en blanco para que enumeren sus habilidades e intereses especial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a opción para marcar si desean ayudar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Un espacio para que enumeren sus necesidad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Algo para cada grupo de mujeres.</a:t>
            </a:r>
            <a:endParaRPr b="0" lang="en-US" sz="2600" spc="-1" strike="noStrike">
              <a:solidFill>
                <a:srgbClr val="e58b79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2T17:50:03Z</dcterms:created>
  <dc:creator>Dan &amp; Lynnetta Hamstra</dc:creator>
  <dc:description/>
  <dc:language>en-US</dc:language>
  <cp:lastModifiedBy>Sede Administrativa</cp:lastModifiedBy>
  <dcterms:modified xsi:type="dcterms:W3CDTF">2003-05-13T13:56:07Z</dcterms:modified>
  <cp:revision>29</cp:revision>
  <dc:subject/>
  <dc:title>Women’s Needs Assessment in the Local Church</dc:title>
</cp:coreProperties>
</file>